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855E-492E-4E81-ADDE-F1A06F9F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A951-3143-4CD5-8DB1-4BDEDF4D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2A98-CD29-4B46-904B-EEBFF8D2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ACEAA-3244-46AC-8C70-33567BAB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1ADC-0B6B-47A6-BA3D-81F85816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9E1B-2B8A-40F7-BB07-E8BDB3FF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CE84-7771-4607-B2C8-DE01A19D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DD05-25AC-40C6-A717-1BCA757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790E-9304-47DE-BFE9-BDD61C43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8E15-B7DE-4FE5-9F80-96CB1273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F15E-E9E8-4FFC-80C5-C2FC368A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B8EB-DFD9-49B2-9D83-2705EB1D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75C7-A11C-4B96-AE30-ABE24347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C073-6A3E-48F4-BE9F-1DEAC7FE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F1F2-611F-48A4-ADBC-C7237D93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760B-9455-4ACF-BA11-F1F3C3FC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C295-F7DE-4BB5-9078-112C97F0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7CF8-B7A6-4B88-BDD0-C25AD51D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0157-6286-4581-949D-128CF2A0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F3B7-AFE3-41AF-9946-4FC1009F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6A4C-B91B-485C-B92E-2F349841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D56E-03C8-4B2D-8F48-A07ECD6C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F8C1-EA57-4834-91E9-C93197E6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E320-B68B-47A8-B084-426EAD06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820B-D204-48E4-AFF7-CD4B1C54F2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5AE5-272D-4FF4-818B-0654B8103C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beling Claims and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se help facilitate private, voluntary labeling eff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aim regulations: ensure truthfulness of a label (e.g., “heart health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ndards: help standardize the meaning of a label or claim (e.g.,  “natural” or “grass fed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cess certification and verification programs (e.g., Certified Angus Bee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rades and Standards (e.g., #2 yellow cor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duct ba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ans send information to consumers about the quality available for sa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.g., Japanese ban on U.S. beef following BSE s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.g., EU ban on growth hormones in beef pro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formation Provision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ducational campaig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r on tobacc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ichelle Obama’s “Let’s Move” campa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od pyramid and food pl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formation dissemin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rice repor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AQs on biotechnology, irradiation, cloning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ffective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1523880"/>
          <a:ext cx="7696440" cy="4445280"/>
        </p:xfrm>
        <a:graphic>
          <a:graphicData uri="http://schemas.openxmlformats.org/drawingml/2006/table">
            <a:tbl>
              <a:tblPr/>
              <a:tblGrid>
                <a:gridCol w="3170520"/>
                <a:gridCol w="1131840"/>
                <a:gridCol w="1131840"/>
                <a:gridCol w="1130400"/>
                <a:gridCol w="1131840"/>
              </a:tblGrid>
              <a:tr h="24444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fficiency or Performance Criteria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llocative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ynam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onmarket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Facilitate more voluntary labeling programs (e.g., process certification programs, standards)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905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Facilitate more mandatory labeling programs (e.g., COOL labeling)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Ban “low quality” products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923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rsue more education or information provision programs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984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Pursue a more </a:t>
                      </a:r>
                      <a:r>
                        <a:rPr b="1" i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laissez faire </a:t>
                      </a: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approach relative to the status quo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/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We Need to Lea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ow do information policies change consumers’ beliefs about the safety/quality of existing product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re there cases where consumers would prefer not to know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is the VOI if consumers never find out the truth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We Need to Lea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is the value of information if consumers have limited attentions or face “too many” choice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is the value of government information campaig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ture of Information Reg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ly more on consumer access to modern technology (e.g., iPhones, bar codes, etc.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etter cost-benefit analys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work asking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ho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f information could be beneficially presen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hould information policies promote social goals or ensure “truth in advertising”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onsumer Information and Label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yson L. Lu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ewer Americans than ever before are connected to agriculture or know where their food comes fr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s this change good or ba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does the change imply for food information polici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y Food Information Polici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conomic motiv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n-economic motiv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Moti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symmetric inform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kerlof’s lemon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es the presence of asymmetric information cause a market failur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Quality uncertain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consumers can’t tell whether a product is “low” or “high” quality, their WTP will not be as high as it might be with better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Moti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ck of Credible Signa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sumers may not trust firms to tell the truth about quality claims – especially for credence go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n reputation help solve the problem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n-Economic Moti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sumers’ “right to know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upport favored grou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mall farmers, local farmer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aternalis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udge consumers to make “better” cho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eviate External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forming consumers of 3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party consequences of consumption might alter behav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lue of Information (VO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e VOI is the most consumers are willing to pay to be better inform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actically, this entails seeing how consumers change behavior after receiving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echnically, VOI is determined by calculating how many $ we’d have to give someone to make the same choices they did before they received inform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ndatory Labe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ducers or retailers are required to label 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.g., mandatory nutritional labeling, mandatory country of origin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gredient-targeted mandatory labeling polices have been less successful in U.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.g., mandatory “rBST” or “GMO” labeling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1T15:37:15Z</dcterms:modified>
  <cp:revision>12</cp:revision>
  <dc:subject/>
  <dc:title>U.S. Policies Affecting Food and Agricultural Marketing</dc:title>
</cp:coreProperties>
</file>